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3261-4F2D-4443-8E1B-EE8690E4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2253-1B38-4468-90B9-35B1F4D6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6EC6-1297-4EB7-B183-54C8E7E6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F15D-7D8E-4F9B-96B3-706E0E60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700D-DBBE-438F-B736-6194DC18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9B68-7CF3-4338-A146-33D0A01F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2394-5973-47CD-8CF0-802E6F34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75BF-8A25-410E-8A18-F3528718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BBE1-CE68-4CA1-B177-C438FAFB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4DF6-17C3-4480-B616-041A9190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E7B7-BBF5-4450-92CE-C590445B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C1BD-0E87-4A24-80F7-093448BD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1481-AE91-4BC5-9106-47EE7AA9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F533-6E2B-4305-84B4-603449D6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5414-DE03-4E68-9FA3-C4A7DBF5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64CB-3EA3-43B3-8E4F-3AF31252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2269-E2EC-4E22-AB4F-86F142FC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EEA2-BCF2-415B-B2DF-0A3FA720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22C2-21EF-4F72-A2D1-0796489F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152B-CDF8-4F29-A1B9-FB67D9D4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23D9-55CD-48E3-ACBB-F56E2764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E1E5-0937-4780-8840-4F44CA16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1748-0874-4CFF-8A50-1424785C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B708-0E17-4447-94BC-3BCB6213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2F05-023A-4396-B0E9-26D261F99F1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A4A4-184D-4CFD-AF57-0EC6FABA2F9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Evolution is NO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f this is what evolution is NOT….then what is evolution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volution is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radual change in a species through adaptations over ti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ypothesis v. Theo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 - Explanation for a question or a problem that can be formally test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 – explanation of natural phenomenon supported by a large body of scientific evidence obtained from many different investigations and observatio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volution is NOT a fact.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 is a theory:  a highly probable explanation affecting all biological phenomena, with much supporting evidence, and NO evidence against i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t is NOT concerned with the origin of life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nly the origin of speci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 is NOT just concerned with the origin of humans…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o more or less than any other speci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 was NOT first explained by Charles Darwin…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ny other people proposed the general idea long before Darwin di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t is NOT the same as natural selection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atural selection deals with how evolution can take place; this idea was first proposed by Charles Darwi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 is NOT something which happened only in the past…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 is still going on today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 is NOT something which happens to individuals…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volution happens to populatio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t is NOT an accidental or random process…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re are built in limits and constraints; it is influenced by both historical circumstances and environmental factor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3:44:09Z</dcterms:created>
  <dc:creator>Clear Creek ISD</dc:creator>
  <dc:description/>
  <dc:language>en-US</dc:language>
  <cp:lastModifiedBy>Clear Creek ISD</cp:lastModifiedBy>
  <dcterms:modified xsi:type="dcterms:W3CDTF">2010-01-26T14:37:50Z</dcterms:modified>
  <cp:revision>3</cp:revision>
  <dc:subject/>
  <dc:title>What Evolution is NOT</dc:title>
</cp:coreProperties>
</file>